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51E1B-D630-4CBE-AA4C-5E04B29384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947BD-8817-4091-9C07-BA56FD3F30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698-72B6-417B-B8B9-6E6C532C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CC8C-EC22-4B09-9959-2945A3D9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7036-6718-4A56-92AE-87627C80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E90F-BBEE-4D7E-A902-3E65C83F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F643-9B13-4DFF-A80F-98BECF51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6FD9-0321-464D-92DD-4B497D35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619-9B99-4C9A-8CEB-810E5A71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C41B-6837-4357-9299-04484CC1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2A26-7B4C-4D31-8FF3-757BA9DA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40E-2AFF-49F8-B482-988DD5C9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D3D-38EE-4DEF-AE69-AE94BDFA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7C0-8025-45BF-9BDE-A19CA4FB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BED56-DAA7-40E3-97D8-B4B7D4E6DD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152360" y="1116000"/>
            <a:ext cx="77756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81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22228b"/>
                </a:solidFill>
                <a:latin typeface="Arial"/>
              </a:rPr>
              <a:t>Создание и функционирование </a:t>
            </a:r>
            <a:endParaRPr b="1" lang="en-US" sz="1800" spc="1" strike="noStrike">
              <a:ln w="0">
                <a:noFill/>
              </a:ln>
              <a:solidFill>
                <a:srgbClr val="22228b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22228b"/>
                </a:solidFill>
                <a:latin typeface="Arial"/>
              </a:rPr>
              <a:t>внутренней системы оценки </a:t>
            </a:r>
            <a:endParaRPr b="1" lang="en-US" sz="1800" spc="1" strike="noStrike">
              <a:ln w="0">
                <a:noFill/>
              </a:ln>
              <a:solidFill>
                <a:srgbClr val="22228b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22228b"/>
                </a:solidFill>
                <a:latin typeface="Arial"/>
              </a:rPr>
              <a:t>качества образования </a:t>
            </a:r>
            <a:endParaRPr b="1" lang="en-US" sz="1800" spc="1" strike="noStrike">
              <a:ln w="0">
                <a:noFill/>
              </a:ln>
              <a:solidFill>
                <a:srgbClr val="22228b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22228b"/>
                </a:solidFill>
                <a:latin typeface="Arial"/>
              </a:rPr>
              <a:t>в  НР МОБУ «ПСОШ №2»</a:t>
            </a:r>
            <a:endParaRPr b="1" lang="en-US" sz="1800" spc="1" strike="noStrike">
              <a:ln w="0">
                <a:noFill/>
              </a:ln>
              <a:solidFill>
                <a:srgbClr val="22228b"/>
              </a:solidFill>
              <a:latin typeface="Arial"/>
              <a:ea typeface="Arial"/>
            </a:endParaRPr>
          </a:p>
        </p:txBody>
      </p:sp>
      <p:sp>
        <p:nvSpPr>
          <p:cNvPr id="49" name="WordArt 2"/>
          <p:cNvSpPr txBox="1"/>
          <p:nvPr/>
        </p:nvSpPr>
        <p:spPr>
          <a:xfrm>
            <a:off x="216000" y="6867360"/>
            <a:ext cx="324000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206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меститель директора по УВР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206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206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розова Елена Николаевн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206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60720" y="179280"/>
            <a:ext cx="79200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ласность результатов О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Объект 3" descr=""/>
          <p:cNvPicPr/>
          <p:nvPr/>
        </p:nvPicPr>
        <p:blipFill>
          <a:blip r:embed="rId1"/>
          <a:stretch/>
        </p:blipFill>
        <p:spPr>
          <a:xfrm>
            <a:off x="493560" y="2255760"/>
            <a:ext cx="908856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4720" y="179280"/>
            <a:ext cx="763272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2228b"/>
                </a:solidFill>
                <a:latin typeface="Arial"/>
              </a:rPr>
              <a:t>Система оценки качества -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419040" y="1403280"/>
            <a:ext cx="928836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Arial"/>
              </a:rPr>
              <a:t>с</a:t>
            </a:r>
            <a:r>
              <a:rPr b="0" lang="ru-RU" sz="3600" spc="-1" strike="noStrike">
                <a:solidFill>
                  <a:srgbClr val="22228b"/>
                </a:solidFill>
                <a:latin typeface="Arial"/>
              </a:rPr>
              <a:t>овокупность организационных и функциональных структур,  норм и правил, диагностических и оценочных процедур, обеспечивающих на единой концептуально-методологической основе оценку образовательных достижений обучающихся, эффективности деятельности образовательного учреждения и его сис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>
            <a:off x="250920" y="2060640"/>
            <a:ext cx="2771640" cy="1873080"/>
          </a:xfrm>
          <a:prstGeom prst="flowChartAlternate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россий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регион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нденции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3348000" y="3284640"/>
            <a:ext cx="2376360" cy="165564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ания 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утришко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ндарта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250920" y="4724280"/>
            <a:ext cx="2735280" cy="1727280"/>
          </a:xfrm>
          <a:prstGeom prst="flowChartAlternate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российски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образцы 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5940360" y="1989000"/>
            <a:ext cx="2916360" cy="1727280"/>
          </a:xfrm>
          <a:prstGeom prst="flowChartAlternate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россий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регион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ы содерж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труктуры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6156360" y="4653000"/>
            <a:ext cx="2808360" cy="1944720"/>
          </a:xfrm>
          <a:prstGeom prst="flowChartAlternate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россий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регион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ду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мен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като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а контро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а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 flipV="1">
            <a:off x="4643280" y="242064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H="1" flipV="1">
            <a:off x="2987280" y="2491920"/>
            <a:ext cx="1655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2916000" y="4941720"/>
            <a:ext cx="165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4500720" y="4941720"/>
            <a:ext cx="1655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1079640" y="1606680"/>
            <a:ext cx="4427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Инвариантная  </a:t>
            </a: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составляю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Осн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е ОУ государственного образовательного станда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Aft>
                <a:spcPts val="1426"/>
              </a:spcAft>
              <a:buClr>
                <a:srgbClr val="ccccff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 интересы вышестоящего уровня в вопросах управления качеством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Aft>
                <a:spcPts val="1426"/>
              </a:spcAft>
              <a:buClr>
                <a:srgbClr val="ccccff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ние, технологии диагностики и информация о качестве образования определяется учредителем и вышестоящими органами управления образова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5400720" y="1474920"/>
            <a:ext cx="42447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Вариативная        </a:t>
            </a: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составляю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Определя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426"/>
              </a:spcAft>
              <a:buClr>
                <a:srgbClr val="ccccff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ритетами развития образования на школьном уровне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426"/>
              </a:spcAft>
              <a:buClr>
                <a:srgbClr val="ccccff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ьными потребностями субъектов модели ОК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426"/>
              </a:spcAft>
              <a:buClr>
                <a:srgbClr val="ccccff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ями используемых школой оценочных процед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32000" y="301680"/>
            <a:ext cx="7848720" cy="8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Нормативно-правовая б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1800" y="1645920"/>
            <a:ext cx="10080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Цель: </a:t>
            </a: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получение </a:t>
            </a:r>
            <a:r>
              <a:rPr b="1" lang="ru-RU" sz="4400" spc="-1" strike="noStrike">
                <a:solidFill>
                  <a:srgbClr val="0066ff"/>
                </a:solidFill>
                <a:latin typeface="Arial"/>
              </a:rPr>
              <a:t>объективной</a:t>
            </a: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 информации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515880" y="3859200"/>
            <a:ext cx="2698920" cy="12700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 состоян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ия в 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691080" y="5448240"/>
            <a:ext cx="2698560" cy="12700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 тенденция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з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6786720" y="3780000"/>
            <a:ext cx="2857320" cy="14270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 причина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лияющ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его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 flipH="1">
            <a:off x="1706040" y="2906640"/>
            <a:ext cx="3095640" cy="95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4802040" y="2906640"/>
            <a:ext cx="2938680" cy="87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 flipH="1">
            <a:off x="4722840" y="2906640"/>
            <a:ext cx="79200" cy="246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144360" y="6707160"/>
            <a:ext cx="9649080" cy="7779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MS Mincho"/>
              </a:rPr>
              <a:t>своевременно вне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MS Mincho"/>
              </a:rPr>
              <a:t>корректив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MS Mincho"/>
              </a:rPr>
              <a:t>в деятельность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6720" y="-360"/>
            <a:ext cx="906912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Основные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4032360" y="5551560"/>
            <a:ext cx="2665440" cy="173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079640" y="1619280"/>
            <a:ext cx="2665440" cy="1728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сис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т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44360" y="3651120"/>
            <a:ext cx="2737080" cy="165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вление фактор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ияющих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ение ка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068640" y="3519360"/>
            <a:ext cx="2806560" cy="180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а ка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4176720" y="1378080"/>
            <a:ext cx="2663640" cy="20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а уров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иж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аю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7209000" y="1305000"/>
            <a:ext cx="2663640" cy="2089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а состояни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6192720" y="3535200"/>
            <a:ext cx="2772000" cy="180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йствие повыш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лифик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7128000" y="5626080"/>
            <a:ext cx="2736720" cy="165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792000" y="5567400"/>
            <a:ext cx="2664000" cy="165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792000" y="5605560"/>
            <a:ext cx="259272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ие форматов собираемой информации и разработка технологий её использования в качестве информационной основы принятия управленческих реш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1"/>
          <p:cNvSpPr/>
          <p:nvPr/>
        </p:nvSpPr>
        <p:spPr>
          <a:xfrm>
            <a:off x="7020000" y="5764320"/>
            <a:ext cx="295272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ие рейтинга педагогов и стимулирующей надбавки к заработной плате за высокое качество обучения и вос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2"/>
          <p:cNvSpPr/>
          <p:nvPr/>
        </p:nvSpPr>
        <p:spPr>
          <a:xfrm>
            <a:off x="3897360" y="5764320"/>
            <a:ext cx="28432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онное, аналитическое и экспертное обеспечение мониторинга школьной системы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107640"/>
            <a:ext cx="906948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нцип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Объект 3" descr=""/>
          <p:cNvPicPr/>
          <p:nvPr/>
        </p:nvPicPr>
        <p:blipFill>
          <a:blip r:embed="rId1"/>
          <a:stretch/>
        </p:blipFill>
        <p:spPr>
          <a:xfrm>
            <a:off x="560520" y="109440"/>
            <a:ext cx="9096120" cy="73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3280" y="323640"/>
            <a:ext cx="77547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Этапы мониторинга результатов учебной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Объект 4" descr=""/>
          <p:cNvPicPr/>
          <p:nvPr/>
        </p:nvPicPr>
        <p:blipFill>
          <a:blip r:embed="rId1"/>
          <a:stretch/>
        </p:blipFill>
        <p:spPr>
          <a:xfrm>
            <a:off x="560520" y="2266920"/>
            <a:ext cx="909612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24360" y="301320"/>
            <a:ext cx="65484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Этапы мониторинга результатов учебной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Объект 4" descr=""/>
          <p:cNvPicPr/>
          <p:nvPr/>
        </p:nvPicPr>
        <p:blipFill>
          <a:blip r:embed="rId1"/>
          <a:stretch/>
        </p:blipFill>
        <p:spPr>
          <a:xfrm>
            <a:off x="633240" y="2309760"/>
            <a:ext cx="909648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7:53:40Z</dcterms:created>
  <dc:creator/>
  <dc:description/>
  <dc:language>en-US</dc:language>
  <cp:lastModifiedBy>Завуч</cp:lastModifiedBy>
  <dcterms:modified xsi:type="dcterms:W3CDTF">2014-09-29T13:25:15Z</dcterms:modified>
  <cp:revision>22</cp:revision>
  <dc:subject/>
  <dc:title>Слайд 1</dc:title>
</cp:coreProperties>
</file>